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where communication st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learning community works through the synergy of shar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stening is how you “know the lear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ou can’t respond without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CA0D-35A2-4223-88F6-BE2220BAD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F7F0-D7BD-4D10-99D4-86650FBCA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B1E8-B479-4591-BE50-83F333FA1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1114-3843-4C75-A3A8-21ACA1614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F1AC-3F27-4E9F-9510-1B04DD2FC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110B-0A82-413C-AA57-825F7708B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F2CE-A564-4F17-8D47-2F6465E80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9571-B1B8-41E9-BA69-78AFF18FE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A617-CA03-4269-8A46-47197A715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0BE9-EC0E-4813-B17D-D7E342ACB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DEC3-4B0B-40BE-8758-56D304AE2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8EA5-7671-4D34-B32B-8CC8D3B22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05D-C3E5-454C-AC27-A65FFFC47B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eaching_History_JERRY_SEINFELD_SNL_.mov" TargetMode="External"/><Relationship Id="rId2" Type="http://schemas.openxmlformats.org/officeDocument/2006/relationships/hyperlink" Target="file:///PeerFeedbackMathTalkSmall.wm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E4E-7426-47CC-B7AE-F06B086827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. To understand how work with fractions supports 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To practice interpretive listening and responding as stud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C68-0073-4021-8214-329AB5ABA9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nceptual Understanding Matter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”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ght integration of number an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.          is 2 plus   ,  it is also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.    is 3 divided by 5, it is also 3 times     ,  it has a value of 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1EB-95DA-4230-A63B-F057E6DAE9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"/>
              <p:cNvSpPr txBox="1"/>
              <p:nvPr/>
            </p:nvSpPr>
            <p:spPr>
              <a:xfrm>
                <a:off x="1828800" y="4876920"/>
                <a:ext cx="17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5892840" y="4940280"/>
                <a:ext cx="17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050920" y="4095720"/>
                <a:ext cx="343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3441600" y="4095720"/>
                <a:ext cx="19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6"/>
          <p:cNvSpPr/>
          <p:nvPr/>
        </p:nvSpPr>
        <p:spPr>
          <a:xfrm>
            <a:off x="4038480" y="29718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4 “units” gives 11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+ 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7x+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99B-E679-4773-BD19-446DE68CEC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"/>
              <p:cNvSpPr txBox="1"/>
              <p:nvPr/>
            </p:nvSpPr>
            <p:spPr>
              <a:xfrm>
                <a:off x="3657600" y="441972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4419720" y="441972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814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3CF3-1136-48D0-8997-F070AECF4C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5486400" y="1501920"/>
            <a:ext cx="3657600" cy="409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4906800" y="4863960"/>
            <a:ext cx="3200400" cy="752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5" name="TextBox 7"/>
          <p:cNvSpPr/>
          <p:nvPr/>
        </p:nvSpPr>
        <p:spPr>
          <a:xfrm>
            <a:off x="34920" y="377496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28600" y="1501920"/>
            <a:ext cx="5619600" cy="1228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5848200" y="1501920"/>
            <a:ext cx="2259000" cy="8604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848200" y="4191120"/>
            <a:ext cx="2259000" cy="6728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3A43-B1FD-4B06-8568-3F7299929D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7F3-666D-4923-A0B6-5B1E57D84B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Content Placeholder 4"/>
              <p:cNvSpPr txBox="1"/>
              <p:nvPr/>
            </p:nvSpPr>
            <p:spPr>
              <a:xfrm>
                <a:off x="322200" y="2770200"/>
                <a:ext cx="16639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7" name="Group 4"/>
          <p:cNvGrpSpPr/>
          <p:nvPr/>
        </p:nvGrpSpPr>
        <p:grpSpPr>
          <a:xfrm>
            <a:off x="4267080" y="2222640"/>
            <a:ext cx="4361040" cy="1981080"/>
            <a:chOff x="4267080" y="2222640"/>
            <a:chExt cx="4361040" cy="1981080"/>
          </a:xfrm>
        </p:grpSpPr>
        <p:sp>
          <p:nvSpPr>
            <p:cNvPr id="118" name="Rectangle 20"/>
            <p:cNvSpPr/>
            <p:nvPr/>
          </p:nvSpPr>
          <p:spPr>
            <a:xfrm>
              <a:off x="5721120" y="2957400"/>
              <a:ext cx="1447920" cy="22860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3"/>
            <p:cNvGrpSpPr/>
            <p:nvPr/>
          </p:nvGrpSpPr>
          <p:grpSpPr>
            <a:xfrm>
              <a:off x="4267080" y="2222640"/>
              <a:ext cx="4361040" cy="1981080"/>
              <a:chOff x="4267080" y="2222640"/>
              <a:chExt cx="4361040" cy="1981080"/>
            </a:xfrm>
          </p:grpSpPr>
          <p:sp>
            <p:nvSpPr>
              <p:cNvPr id="120" name="Rectangle 8"/>
              <p:cNvSpPr/>
              <p:nvPr/>
            </p:nvSpPr>
            <p:spPr>
              <a:xfrm>
                <a:off x="42670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57178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7166160" y="222444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8148960" y="222408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426852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571968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7167960" y="26053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8150400" y="26049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9"/>
              <p:cNvSpPr/>
              <p:nvPr/>
            </p:nvSpPr>
            <p:spPr>
              <a:xfrm>
                <a:off x="4275000" y="29545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1"/>
              <p:cNvSpPr/>
              <p:nvPr/>
            </p:nvSpPr>
            <p:spPr>
              <a:xfrm>
                <a:off x="7173360" y="295560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2"/>
              <p:cNvSpPr/>
              <p:nvPr/>
            </p:nvSpPr>
            <p:spPr>
              <a:xfrm>
                <a:off x="8156880" y="295596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4"/>
              <p:cNvSpPr/>
              <p:nvPr/>
            </p:nvSpPr>
            <p:spPr>
              <a:xfrm>
                <a:off x="4275000" y="32893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"/>
              <p:cNvSpPr/>
              <p:nvPr/>
            </p:nvSpPr>
            <p:spPr>
              <a:xfrm>
                <a:off x="5726160" y="32893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6"/>
              <p:cNvSpPr/>
              <p:nvPr/>
            </p:nvSpPr>
            <p:spPr>
              <a:xfrm>
                <a:off x="7173360" y="32911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7"/>
              <p:cNvSpPr/>
              <p:nvPr/>
            </p:nvSpPr>
            <p:spPr>
              <a:xfrm>
                <a:off x="8156880" y="329112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9"/>
              <p:cNvSpPr/>
              <p:nvPr/>
            </p:nvSpPr>
            <p:spPr>
              <a:xfrm>
                <a:off x="42670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0"/>
              <p:cNvSpPr/>
              <p:nvPr/>
            </p:nvSpPr>
            <p:spPr>
              <a:xfrm>
                <a:off x="57178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1"/>
              <p:cNvSpPr/>
              <p:nvPr/>
            </p:nvSpPr>
            <p:spPr>
              <a:xfrm>
                <a:off x="7166160" y="367056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2"/>
              <p:cNvSpPr/>
              <p:nvPr/>
            </p:nvSpPr>
            <p:spPr>
              <a:xfrm>
                <a:off x="8148960" y="36705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4"/>
              <p:cNvSpPr/>
              <p:nvPr/>
            </p:nvSpPr>
            <p:spPr>
              <a:xfrm>
                <a:off x="428112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5"/>
              <p:cNvSpPr/>
              <p:nvPr/>
            </p:nvSpPr>
            <p:spPr>
              <a:xfrm>
                <a:off x="573228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6"/>
              <p:cNvSpPr/>
              <p:nvPr/>
            </p:nvSpPr>
            <p:spPr>
              <a:xfrm>
                <a:off x="7180560" y="397548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7"/>
              <p:cNvSpPr/>
              <p:nvPr/>
            </p:nvSpPr>
            <p:spPr>
              <a:xfrm>
                <a:off x="8163000" y="397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Cloud Callout 43"/>
          <p:cNvSpPr/>
          <p:nvPr/>
        </p:nvSpPr>
        <p:spPr>
          <a:xfrm>
            <a:off x="5665680" y="206280"/>
            <a:ext cx="2286000" cy="1766880"/>
          </a:xfrm>
          <a:prstGeom prst="cloudCallout">
            <a:avLst>
              <a:gd name="adj1" fmla="val -28240"/>
              <a:gd name="adj2" fmla="val 76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 Callout 44"/>
          <p:cNvSpPr/>
          <p:nvPr/>
        </p:nvSpPr>
        <p:spPr>
          <a:xfrm>
            <a:off x="6242040" y="4724280"/>
            <a:ext cx="2386080" cy="1219320"/>
          </a:xfrm>
          <a:prstGeom prst="cloudCallout">
            <a:avLst>
              <a:gd name="adj1" fmla="val 8379"/>
              <a:gd name="adj2" fmla="val -11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7"/>
          <p:cNvGrpSpPr/>
          <p:nvPr/>
        </p:nvGrpSpPr>
        <p:grpSpPr>
          <a:xfrm>
            <a:off x="3886200" y="1973160"/>
            <a:ext cx="3394080" cy="2594160"/>
            <a:chOff x="3886200" y="1973160"/>
            <a:chExt cx="3394080" cy="2594160"/>
          </a:xfrm>
        </p:grpSpPr>
        <p:sp>
          <p:nvSpPr>
            <p:cNvPr id="146" name="Oval 45"/>
            <p:cNvSpPr/>
            <p:nvPr/>
          </p:nvSpPr>
          <p:spPr>
            <a:xfrm>
              <a:off x="3886200" y="1973160"/>
              <a:ext cx="3394080" cy="2594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6"/>
            <p:cNvSpPr/>
            <p:nvPr/>
          </p:nvSpPr>
          <p:spPr>
            <a:xfrm>
              <a:off x="5045400" y="2517840"/>
              <a:ext cx="142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1"/>
          <p:cNvGrpSpPr/>
          <p:nvPr/>
        </p:nvGrpSpPr>
        <p:grpSpPr>
          <a:xfrm>
            <a:off x="7124760" y="2100240"/>
            <a:ext cx="1386000" cy="2259000"/>
            <a:chOff x="7124760" y="2100240"/>
            <a:chExt cx="1386000" cy="2259000"/>
          </a:xfrm>
        </p:grpSpPr>
        <p:sp>
          <p:nvSpPr>
            <p:cNvPr id="149" name="Oval 49"/>
            <p:cNvSpPr/>
            <p:nvPr/>
          </p:nvSpPr>
          <p:spPr>
            <a:xfrm>
              <a:off x="7124760" y="2100240"/>
              <a:ext cx="1219320" cy="2259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50"/>
            <p:cNvSpPr/>
            <p:nvPr/>
          </p:nvSpPr>
          <p:spPr>
            <a:xfrm>
              <a:off x="7291440" y="25261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-17640" y="1262160"/>
            <a:ext cx="4911840" cy="1030320"/>
            <a:chOff x="-17640" y="1262160"/>
            <a:chExt cx="4911840" cy="1030320"/>
          </a:xfrm>
        </p:grpSpPr>
        <p:sp>
          <p:nvSpPr>
            <p:cNvPr id="152" name="Cloud Callout 50"/>
            <p:cNvSpPr/>
            <p:nvPr/>
          </p:nvSpPr>
          <p:spPr>
            <a:xfrm>
              <a:off x="-17640" y="1262160"/>
              <a:ext cx="4911840" cy="1030320"/>
            </a:xfrm>
            <a:prstGeom prst="cloudCallout">
              <a:avLst>
                <a:gd name="adj1" fmla="val -13412"/>
                <a:gd name="adj2" fmla="val 1174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26316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171432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3162240" y="1664640"/>
              <a:ext cx="1447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9"/>
            <p:cNvSpPr/>
            <p:nvPr/>
          </p:nvSpPr>
          <p:spPr>
            <a:xfrm>
              <a:off x="4159440" y="1665360"/>
              <a:ext cx="457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209680" y="3289320"/>
                <a:ext cx="116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1300-C246-4B21-9CBE-1B58BAF059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63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next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chers go away to “prep”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A245-1C9D-4BA6-8C9E-507A212397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come up with a set of question “stems” that you will use as students during the 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C73D-2C05-408E-AFC2-2C58FF0215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 through the questions as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Listening and Questioning to understand and build on each other’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dent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 / questioning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eacher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/questioning to understand and push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your thinking on chart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376-02F3-4094-AA7A-58598B9930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C74A-E480-45B2-87EB-2F8C41C6C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udent Instru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. Represent 144 using the base 10 blocks.  Show several different arrange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rite equivalent expressions that reflect these arrang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. Now suppose the big square represents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 your arrangements illustrate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. Now suppose the big square represents x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 your arrangements repres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E60-9CAB-400F-97B0-AAEAF5CCA2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consolidation or 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B47-92F9-4CB9-863A-DC38C3E8A7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5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eacher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 about listening / questioning while you were playing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tudent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your experience with listening / questioning while you were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oth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93EA-A71B-4B07-9C3A-55C2BA1C7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C8A-671D-4D44-9BDE-B38A05F7BC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ing : Why?  How?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 concepts and the are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fractions and algebraic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FFC4-0AAE-44DD-9431-1F959DE33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C5B6-3A32-4C97-8508-0C18012F0B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Sienfeld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B7D0-8A4D-4DE5-ABA4-E17EE19524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d the Research Synop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 light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iew the Ac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127C-0A14-4FF5-BEB4-F999F68E1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Listening in a Learning Communit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A46-A559-4C7B-8485-E56C11EAFF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9AA-852E-497E-98CB-FD75D83B7B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Canvas 1"/>
          <p:cNvGrpSpPr/>
          <p:nvPr/>
        </p:nvGrpSpPr>
        <p:grpSpPr>
          <a:xfrm>
            <a:off x="3105000" y="2170080"/>
            <a:ext cx="5486400" cy="3200400"/>
            <a:chOff x="3105000" y="2170080"/>
            <a:chExt cx="5486400" cy="3200400"/>
          </a:xfrm>
        </p:grpSpPr>
        <p:sp>
          <p:nvSpPr>
            <p:cNvPr id="75" name="Rectangle 16"/>
            <p:cNvSpPr/>
            <p:nvPr/>
          </p:nvSpPr>
          <p:spPr>
            <a:xfrm>
              <a:off x="3105000" y="217008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7"/>
            <p:cNvSpPr/>
            <p:nvPr/>
          </p:nvSpPr>
          <p:spPr>
            <a:xfrm>
              <a:off x="3390480" y="242712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8"/>
            <p:cNvSpPr/>
            <p:nvPr/>
          </p:nvSpPr>
          <p:spPr>
            <a:xfrm>
              <a:off x="5952960" y="242712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19"/>
            <p:cNvSpPr/>
            <p:nvPr/>
          </p:nvSpPr>
          <p:spPr>
            <a:xfrm>
              <a:off x="3390480" y="386568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20"/>
            <p:cNvSpPr/>
            <p:nvPr/>
          </p:nvSpPr>
          <p:spPr>
            <a:xfrm>
              <a:off x="5362560" y="3379680"/>
              <a:ext cx="112392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5314680" y="35607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3390480" y="2427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7284960" y="2427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390480" y="386568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7124760" y="3865680"/>
              <a:ext cx="1390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16:26:40Z</dcterms:modified>
  <cp:revision>57</cp:revision>
  <dc:subject/>
  <dc:title>&lt;Title&gt;</dc:title>
</cp:coreProperties>
</file>